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E974-FD1A-4853-AC5D-D4C0C8BE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945D-9A52-47FC-9D02-C3EBC9C0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71E6-D55D-43E6-B0DA-77B55532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2275-FD7B-4031-A24A-B652BDAA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4BC-6CEC-450D-B555-2BB3C304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F39-E2B8-46FA-8FA8-1FC54F04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C826-E773-4B22-B465-9FF4B57A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4E8-768C-4573-B631-BEEE4BA9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043D-4254-4934-AA58-E6ACC87A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06C-02BF-4308-8B2B-23AFE468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A95-B823-4E44-B4C1-C496C591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4292-7A94-4CA0-AC10-3802D4D2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ABAA-4180-4D6A-A519-837377C0E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em720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5344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n720" descr=""/>
          <p:cNvPicPr/>
          <p:nvPr/>
        </p:nvPicPr>
        <p:blipFill>
          <a:blip r:embed="rId1"/>
          <a:stretch/>
        </p:blipFill>
        <p:spPr>
          <a:xfrm>
            <a:off x="2057400" y="0"/>
            <a:ext cx="2641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00:27:21Z</dcterms:created>
  <dc:creator>geoff lyon</dc:creator>
  <dc:description/>
  <dc:language>en-US</dc:language>
  <cp:lastModifiedBy>geoff lyon</cp:lastModifiedBy>
  <dcterms:modified xsi:type="dcterms:W3CDTF">2001-10-13T00:27:54Z</dcterms:modified>
  <cp:revision>1</cp:revision>
  <dc:subject/>
  <dc:title>PowerPoint Presentation</dc:title>
</cp:coreProperties>
</file>